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6030-192F-4E9F-962C-BA385A1E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the maternals end up on one side of the cell and the paternals on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= 46-23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ew cell contains one chromosome from each homologous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ch new cell contains 2 copies of the chromosome because the original cell copies its DNA before meiosis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-12 on page 1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in unicellular orgs, budding in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610-50A5-4D42-80DD-D7D60B1E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B4A-FDD0-4D8B-BEFD-418E4DEC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639-533B-4E7D-A913-49EC5E28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AB5-49EC-4611-8A03-1032BD0F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7A6-639A-45AC-BF3D-5E60DCE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3FB-3052-4DB2-AE4C-E493232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FB8-3FAD-4E7D-9B4D-85927618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546-5270-4020-A063-352EFC6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C6F-1C90-4CD8-9619-55131837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4F1-76C3-4115-9339-9D5C4F2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217-B520-4650-B1CF-45E015A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879-EF51-4C23-88AD-DEAAB157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B6F9-BE95-41B3-8F76-6EC75456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Now: Review from 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body cell has 46 chromosomes. In a human body cell, mitosis 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two cells with 46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two cells with 23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four cells with 23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four cells with 46 chromosomes i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arities to Mito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ils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fibers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 from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 pair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mologous chromosomes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of chromosomes (1 from mother and 1 from father) that have the same genes (ex: gene for eye col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: 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ossing 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omologous chromosomes “trade”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tic Re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tr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i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crossing over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s genes so that offspring look different from either parent and from their sibl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575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tra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up in the middle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fibers attach to the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, Centromere, Spindle, Metaphase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059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 move to opposite ends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, sp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8680" y="2022480"/>
            <a:ext cx="32767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 I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reach opposite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plasm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daughter cells wit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chromosom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membrane, centrioles,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ied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dentical copies of DNA) separate like they do during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et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Telophase II and Cytoki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396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Result of Meiosis: 4 haploid daught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itosis,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nt body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s to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daughter bod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ughter cells are diploid…have two sets of chromosomes (46 total in huma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one blood cell divides to make two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429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i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, spindle,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171880"/>
            <a:ext cx="3352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chromosomes to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, Chromatids, Centromere, Spindle, Metaphase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09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t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om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ve toward opposite ends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romosomes, Spin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7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 II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ind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uncoil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uclear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elop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ytopla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mbrane, Centrioles, Uncoiling Chromosomes (chromat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98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Goal: Making Sex Cel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me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oductive cells made during meiosis (ex: sperm and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cells are made in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s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a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3200400" cy="253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32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sper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cell divides by meiosis to form four haploi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ploid cell divides by meiosis to mak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egg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ree haploid cells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la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57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g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all the cytoplasm and organelles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lar bo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ny little structures with DN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bodies break down and di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L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made in mit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362320"/>
          <a:ext cx="8381880" cy="3590640"/>
        </p:xfrm>
        <a:graphic>
          <a:graphicData uri="http://schemas.openxmlformats.org/drawingml/2006/table">
            <a:tbl>
              <a:tblPr/>
              <a:tblGrid>
                <a:gridCol w="3505320"/>
                <a:gridCol w="2361960"/>
                <a:gridCol w="2514600"/>
              </a:tblGrid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of Chrom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chromosomes in hu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cell (ex, blood cell, bone cel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cell (sperm or egg cel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iosis- A New Type of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600200"/>
            <a:ext cx="428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meiosis, new SEX CELLS (eggs and sperm)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Eggs and sperm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aning they have one set of chromosomes (23 total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86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might it be a problem for sex cells to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pl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where the nucleus divides that splits the original chromosomes in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pl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ody Cell =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or Sperm Cell 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... so that chromosome number won’t be doubled dur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Poi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osis makes fertilization possibl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exua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offspring (children) that are identical to the parent (ex: binary fission in bacteria or “budding” in spo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Sexua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offspring that are different from the parent, meiosis happens and then sperm and egg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8098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8101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meiosis begins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1, S, G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during each part of interphase?  Is this considered part of cell di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Mei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eiosis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Me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19720" y="3105000"/>
            <a:ext cx="4190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Cel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029200" cy="500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86400" y="2057400"/>
            <a:ext cx="320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uses the same cycle as mitosis, except meiosis happens in 2 par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hase must still happen so the cell can grow, copy its DNA, and prepare for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number gets cut in 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diploid c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haploid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eta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Telo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27:59Z</dcterms:created>
  <dc:creator>Kate</dc:creator>
  <dc:description/>
  <dc:language>en-US</dc:language>
  <cp:lastModifiedBy>Kate</cp:lastModifiedBy>
  <dcterms:modified xsi:type="dcterms:W3CDTF">2011-12-27T23:55:13Z</dcterms:modified>
  <cp:revision>10</cp:revision>
  <dc:subject/>
  <dc:title>Meiosis</dc:title>
</cp:coreProperties>
</file>